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C183-274E-4577-B7B2-0393886B6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54E2-49DB-4C20-884C-FADCE01BB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2D34-018A-4E34-9015-AF2F48925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B74B-4DB3-4E19-BB18-5B154F08E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A7E0-B242-4FE6-BED5-DB65A4139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C4F8-E8BF-4FD6-9345-9F63D9860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1A0A-BF12-4A86-A368-847D11429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7C8D-26A6-49BF-887E-9AB8F5BC3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FF77-9FF2-4347-8DAD-0FD417D5D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57B4-CA1B-44C5-89E8-982C6400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067C-EECB-46D3-8BCE-E831E298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994F-9021-4CF5-9FAF-73BEFBC5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BF714-1701-4642-B0E1-80C67D77DD5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colife.ru/infos/news/373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11"/>
          <p:cNvSpPr txBox="1"/>
          <p:nvPr/>
        </p:nvSpPr>
        <p:spPr>
          <a:xfrm>
            <a:off x="990720" y="1905120"/>
            <a:ext cx="7772400" cy="17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рбанизация населения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733920" y="5409720"/>
            <a:ext cx="67816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полнил: Сметанин Михаи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удент: 231 групп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рбанизация, с одной стороны, улучшает условия жизни населения, с другой - приводит к вытеснению природных, естественных систем искусственными, загрязнению окружающей среды, повышению химической, физической и психической нагрузки на живые организмы.Крупный город изменяет почти все компоненты природной среды - атмосферу, растительность, почву, подземные воды, грунт и даже климат, а также электрическое, магнитное и другие физические поля Земли. Перепады температур, относительной влажности, солнечной радиации между городом и его окрестностями иногда соизмеримы с передвижением в естественных условиях на 20 град. По широте, причём изменение одних природных условий неизменно вызывает изменение других. По данным исследований, проведённых в Англии и США, большие города получают на 15% меньше солнечной радиации (и на 30% меньше ультрафиолетовых лучей в зимнее время), на 10% больше осадков, на 10% больше облачных дней, на 30% больше тумана летом и на 100% зимой. Съёмки из космоса дают сведения о физических полях, возникающих вокруг больших городов, в частнос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666880" y="304920"/>
            <a:ext cx="41148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ОБЛЕМЫ</a:t>
            </a:r>
            <a:endParaRPr b="0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c4f2"/>
                </a:solidFill>
                <a:latin typeface="Arial Black"/>
              </a:rPr>
              <a:t>        </a:t>
            </a:r>
            <a:r>
              <a:rPr b="1" i="1" lang="en-US" sz="2400" spc="-1" strike="noStrike" u="sng">
                <a:solidFill>
                  <a:srgbClr val="e0c4f2"/>
                </a:solidFill>
                <a:uFillTx/>
                <a:latin typeface="Arial Black"/>
              </a:rPr>
              <a:t>ИСПОЛЬЗОВАННАЯ  ЛИТЕРАТУРА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0c4f2"/>
                </a:solidFill>
                <a:latin typeface="Arial"/>
              </a:rPr>
              <a:t>1.www.hmn.ru/index.php?index=14&amp;value=1&amp;page=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0c4f2"/>
                </a:solidFill>
                <a:latin typeface="Arial"/>
              </a:rPr>
              <a:t>2. 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www.ecolife.ru/infos/news/373/</a:t>
            </a:r>
            <a:r>
              <a:rPr b="0" lang="ru-RU" sz="3200" spc="-1" strike="noStrike">
                <a:solidFill>
                  <a:srgbClr val="e0c4f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0c4f2"/>
                </a:solidFill>
                <a:latin typeface="Arial"/>
              </a:rPr>
              <a:t>3. ecoportal.ru/news.php?id=3605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0c4f2"/>
                </a:solidFill>
                <a:latin typeface="Arial"/>
              </a:rPr>
              <a:t>4. ww.souz.co.il/news/read.html? warticle=6006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Основополагающий вопрос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Влияет ли рост городов на экологию планет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70c0"/>
                </a:solidFill>
                <a:uFillTx/>
                <a:latin typeface="Arial"/>
              </a:rPr>
              <a:t>Проблемные вопросы</a:t>
            </a:r>
            <a:r>
              <a:rPr b="0" i="1" lang="en-US" sz="3200" spc="-1" strike="noStrike" u="sng">
                <a:solidFill>
                  <a:srgbClr val="0070c0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1) 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Как влияет рост городов на экологию планет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2) Как распад СССР отразился на русской деревн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3) сколько времени осталось жить Русской деревн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2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3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6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9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2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5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рбанизация населения - процесс повышения роли городов в развитии общества. Предпосылки урбанизации – рост в городах промышленности, развитие их культурных и политических функций, углубление территориального разделения труда. Для урбанизации  характерны приток в города  сельского населения и возвращающее маятниковое движение населения из сельского окружения и близ лежащих малых городов в крупные города( на работу, по культурно - бытовым надобностям и пр..) Процесс  обратный урбанизации называется  рурализаци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WordArt 7"/>
          <p:cNvSpPr txBox="1"/>
          <p:nvPr/>
        </p:nvSpPr>
        <p:spPr>
          <a:xfrm>
            <a:off x="2666880" y="609480"/>
            <a:ext cx="3043440" cy="74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едисловие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6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7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2b8fe"/>
                </a:solidFill>
                <a:latin typeface="Arial Black"/>
              </a:rPr>
              <a:t>          </a:t>
            </a:r>
            <a:r>
              <a:rPr b="1" lang="en-US" sz="3200" spc="-1" strike="noStrike" u="sng">
                <a:solidFill>
                  <a:srgbClr val="c2b8fe"/>
                </a:solidFill>
                <a:uFillTx/>
                <a:latin typeface="Arial Black"/>
              </a:rPr>
              <a:t>Сельское население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ельское расселение возникло с развитием земледелия. В настоящее время более половины населения мира живет в сельской местности. Сельских населенных пунктов насчитывается 15-20 млн. Они различны по величине, форме, специализации хозяйств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уществуют две формы сельского расселения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групповая (деревенская) - наиболее характерна для стран Центральной и Южной Европы, России, Японии, а также для большинства развивающихся стран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ссеянная (ферма) - наиболее распространены в США, Канаде, Австралии, странах Северной Европ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районах кочевого скотоводства постоянные поселения вообще отсутствую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c5bc"/>
                </a:solidFill>
                <a:latin typeface="Arial Black"/>
              </a:rPr>
              <a:t>          </a:t>
            </a:r>
            <a:r>
              <a:rPr b="1" i="1" lang="en-US" sz="3200" spc="-1" strike="noStrike" u="sng">
                <a:solidFill>
                  <a:srgbClr val="fac5bc"/>
                </a:solidFill>
                <a:uFillTx/>
                <a:latin typeface="Arial Black"/>
              </a:rPr>
              <a:t>Городское население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Городское расселение. Города возникли в древности в междуречье Тигра и Евфрата, а затем в низовьях и дельте Нила как центры административной власти, торговли и ремесла. С развитием индустрии в них концентрировалось промышленное производство, формировалась инфраструктура, развивались транспортные связи. Города постепенно становились центрами притяжения для всей окружающей территории, возрастала их роль в территориальной организации хозяйства. Сегодня функции крупных городов расширились. Они являются промышленными, культурными, научными, административными центрами, транспортными узлами. Большинство городов - многофункциональные. Однако есть города, имеющие "специализацию", - однофункциональные. К ним относятся горнопромышленные центры, города-курорты, научные центры, некоторые столицы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пределение города в разных странах различно. Например, в США городом считается поселение свыше 2,5 тыс. человек, в Индии - свыше 5 тыс., Нидерландах - 20 тыс., Японии - 30 тыс., а в Швеции, Дании, Финляндии - лишь более 200 человек. В России учитывается не только число жителей, но и показатель занятости населения (промышленность, сфера обслуживания)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настоящее время размещение населения все более определяется географией городов, они постепенно становятся основной формой расселения люде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 Black"/>
              </a:rPr>
              <a:t>Жизнедеятельность населения в условиях урбанизации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 примере России урбанизация рассматривается как решающий фактор развития цивилизации и размещения населения на Земле. Показано расслоение городского населения, влияющее на демографическую и социальную структуру жителей города, мораль и ценностные ориентации. Рассмотрено влияние урбанизации (всегда сопровождающейся жилищным кризисом в городах) на среду обитания населения. Показаны основные отрицательные факторы урбанизации: экологические проблемы (загрязнение городской среды, рост плотности застройки, уменьшение площади зеленых насаждений и др.), деструктивное влияние на человека (здоровье, эмоциональный дискомфорт и стресс у жителей, психические перегрузки, приводящие человека к отчуждению от городской среды). Рассмотрена возможность будущей дезурбанизации за счет развития средств связи, телекоммуникаций и интерне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Феномен урбанизации имеет как положительные так и отрицательные моменты; Частные и региональные проблемы вполне решаемы при современном развитии науки и техники, но трудно разрешимы с позиции политики, законодательства и экономики. Добрая воля и активная жизненная позиция людей способна подвигнуть решение многих пробле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временные уровни энергообеспечения и представленные альтернативные источники не способны решить современные потребности человечества в энергии. Тому было много примеров. Наиболее актуальным путём является активный поиск новейших технологий утилизации прямых и опосредованных энергий Солнца. За этим стоит будущее энергетики. Атомная энергетика не должна быть главенствующей, т. к. несет в себе много негативных последств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 современном уровне потребления ёмкость нашей среды подходит к рубежной планке. Природа имеет свои рычаги самосохранения и человечество ждут серьёзные испытания. Один из путей решения этой проблемы - переход на ресурсосберегающие технологии, создание государственных программ по демографии, поиск альтернативных источников сырья и энерг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533520"/>
            <a:ext cx="8153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банизация и климатические изменения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plit dir="in" orient="ver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облема урбанизации стала для жителей Земли злободневной. Человечество достигло в своем развитии такого уровня потребления ресурсов и энергии, что экосистема планеты Земля может не выдержать такого давле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Чтобы не случилось катастрофы, люди должны успеть урегулировать отношения планета - человек. Человек - это вид биологический и социальны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пособ его существования на Земле - общество и сообщество. Люди живут в посёлках, малых и больших городах. Стремление к скоплению тоже не должно быть бесконечным. Если обратить внимание на график кривой нормального распределения, который описывает закон оптимума, то будет понятно, что, увеличение населения на ограниченных территориях приведёт к критическим условиям. Гиперконцентрация населения в крупных городах и мегаполисах свидетельствует о том, что ситуация уже носит критический характер, т. к. ресурсов и энергии явно на всех не хватает. Выход из этой ситуации нужно искать всем вместе. Работы секций нам осветят частные проблемы и пути их реше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447920" y="838080"/>
            <a:ext cx="61243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рбанизация и ее проблемы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b7"/>
                </a:solidFill>
                <a:latin typeface="Arial Black"/>
              </a:rPr>
              <a:t>           </a:t>
            </a:r>
            <a:r>
              <a:rPr b="1" i="1" lang="en-US" sz="4400" spc="-1" strike="noStrike" u="sng">
                <a:solidFill>
                  <a:srgbClr val="ffffb7"/>
                </a:solidFill>
                <a:uFillTx/>
                <a:latin typeface="Arial Black"/>
              </a:rPr>
              <a:t>Проблем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ород представляет собой особый мир, особую среду обитания человека - городскую среду. Это сложное образование, продукт взаимодействия природы и человеческой деятельности. Расширяясь, города сливаются друг с другом, образуя агломерации. В результате чрезмерного разрастания городских агломераций появились гиперурбанизированные районы, которые известны как мегаполис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заимосвязь всех компонентов и явлений городской среды позволяет говорить о ней как об урбосистеме. Урбоэкосистемы соотносятся с конкретным местом в географическом пространстве. В жизни урбосистемы велика роль временного фактора. Урбосистемы - это системы открытые, вероятноятные, управляемые. Важной особенностью урбосистем является их антропоцентриз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ородские экосистемы гетеротрофны, т. к. доля солнечной энергии, фиксированная городскими растениями или солнечными батареями, расположенными на крышах домов, незначительна. Основные источники энергии для жизни города - это сжигаемые органические энергоносители (нефть, газ, уголь), а также гидро- и атомные</a:t>
            </a: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 электростанции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иша</dc:creator>
  <dc:description/>
  <dc:language>en-US</dc:language>
  <cp:lastModifiedBy>Admin</cp:lastModifiedBy>
  <dcterms:modified xsi:type="dcterms:W3CDTF">2009-12-24T23:32:18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